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C5E98-DCB8-4E0B-A8BC-E7E61AE83E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1B9B5-C5F4-4D34-B3BB-BA95AC312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CCF74-20BE-4683-AAA5-AE9F75F0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046D4-6D68-4AB1-8CF2-C17989BC06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EBBC8-6139-475C-B7B1-26C4DA156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EC91A-6F1B-42E5-BCAE-39DAA56FE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5C1C3-BD2D-4428-9DB0-61C58FEE6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3264F-8C04-4289-8A72-BAD435248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97D5D-78D2-4B29-9762-CFB16FF91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4FE0B-D364-4477-BF9B-4B6D3112C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49559-A0BC-4904-B556-D8584D46E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6715D-D3DC-4D4B-8533-32E8EB046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D01C7-E281-4F77-AADB-A368CD846B3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840" y="2214720"/>
            <a:ext cx="42861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章   分娩期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并发症妇女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王艳荣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3920" y="1643040"/>
            <a:ext cx="66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迅速止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补充血容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抗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13840" y="14288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  <a:ea typeface="黑体"/>
              </a:rPr>
              <a:t>子宫收缩乏力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、按摩子宫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两种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、宫缩剂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、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黑体"/>
                <a:hlinkClick r:id="rId1" action="ppaction://hlinksldjump"/>
              </a:rPr>
              <a:t>压迫止血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3500280" y="278604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4033080" y="2643120"/>
            <a:ext cx="1095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黑体"/>
                <a:hlinkClick r:id="rId2" action="ppaction://hlinksldjump"/>
              </a:rPr>
              <a:t>经腹部按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4096440" y="3357720"/>
            <a:ext cx="127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黑体"/>
                <a:hlinkClick r:id="rId3" action="ppaction://hlinksldjump"/>
              </a:rPr>
              <a:t>腹部阴道按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3" name="Picture 2" descr="F:\旧电脑办公资料\教材编写\北京医学出版社教材编写2014-10\11.分娩期并发症护理（王艳荣返修稿）\第11章图片\11-2 双手腹壁按摩子宫法.jpg"/>
          <p:cNvPicPr/>
          <p:nvPr/>
        </p:nvPicPr>
        <p:blipFill>
          <a:blip r:embed="rId1"/>
          <a:stretch/>
        </p:blipFill>
        <p:spPr>
          <a:xfrm>
            <a:off x="2071800" y="1071720"/>
            <a:ext cx="4572000" cy="4519440"/>
          </a:xfrm>
          <a:prstGeom prst="rect">
            <a:avLst/>
          </a:prstGeom>
          <a:ln w="0">
            <a:noFill/>
          </a:ln>
        </p:spPr>
      </p:pic>
      <p:sp>
        <p:nvSpPr>
          <p:cNvPr id="134" name="矩形 4"/>
          <p:cNvSpPr/>
          <p:nvPr/>
        </p:nvSpPr>
        <p:spPr>
          <a:xfrm>
            <a:off x="3000600" y="5929200"/>
            <a:ext cx="257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双手腹壁按摩子宫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动作按钮: 后退或前一项 5">
            <a:hlinkClick r:id="" action="ppaction://hlinkshowjump?jump=previousslide"/>
          </p:cNvPr>
          <p:cNvSpPr/>
          <p:nvPr/>
        </p:nvSpPr>
        <p:spPr>
          <a:xfrm>
            <a:off x="8358120" y="592920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  <a:path fill="darken" w="21600" h="24692">
                <a:moveTo>
                  <a:pt x="3794" y="12346"/>
                </a:moveTo>
                <a:lnTo>
                  <a:pt x="17806" y="5340"/>
                </a:lnTo>
                <a:lnTo>
                  <a:pt x="17806" y="19353"/>
                </a:lnTo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Picture 3" descr="F:\旧电脑办公资料\教材编写\北京医学出版社教材编写2014-10\11.分娩期并发症护理（王艳荣返修稿）\第11章图片\11-3 腹壁-阴道双手按摩子宫法.jpg"/>
          <p:cNvPicPr/>
          <p:nvPr/>
        </p:nvPicPr>
        <p:blipFill>
          <a:blip r:embed="rId1"/>
          <a:stretch/>
        </p:blipFill>
        <p:spPr>
          <a:xfrm>
            <a:off x="1143000" y="1071720"/>
            <a:ext cx="6500880" cy="4755960"/>
          </a:xfrm>
          <a:prstGeom prst="rect">
            <a:avLst/>
          </a:prstGeom>
          <a:ln w="0">
            <a:noFill/>
          </a:ln>
        </p:spPr>
      </p:pic>
      <p:sp>
        <p:nvSpPr>
          <p:cNvPr id="138" name="矩形 4"/>
          <p:cNvSpPr/>
          <p:nvPr/>
        </p:nvSpPr>
        <p:spPr>
          <a:xfrm>
            <a:off x="3115800" y="5929200"/>
            <a:ext cx="319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腹壁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-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阴道双手按摩子宫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动作按钮: 后退或前一项 5">
            <a:hlinkClick r:id="rId2" action="ppaction://hlinksldjump"/>
          </p:cNvPr>
          <p:cNvSpPr/>
          <p:nvPr/>
        </p:nvSpPr>
        <p:spPr>
          <a:xfrm>
            <a:off x="8286840" y="592920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  <a:path fill="darken" w="21600" h="24692">
                <a:moveTo>
                  <a:pt x="3794" y="12346"/>
                </a:moveTo>
                <a:lnTo>
                  <a:pt x="17806" y="5340"/>
                </a:lnTo>
                <a:lnTo>
                  <a:pt x="17806" y="19353"/>
                </a:lnTo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2" descr="F:\旧电脑办公资料\教材编写\北京医学出版社教材编写2014-10\11.分娩期并发症护理（王艳荣返修稿）\第11章图片\11-4 无菌纱条宫腔填塞法.jpg"/>
          <p:cNvPicPr/>
          <p:nvPr/>
        </p:nvPicPr>
        <p:blipFill>
          <a:blip r:embed="rId1"/>
          <a:stretch/>
        </p:blipFill>
        <p:spPr>
          <a:xfrm>
            <a:off x="1428840" y="1071720"/>
            <a:ext cx="5486400" cy="4652640"/>
          </a:xfrm>
          <a:prstGeom prst="rect">
            <a:avLst/>
          </a:prstGeom>
          <a:ln w="0">
            <a:noFill/>
          </a:ln>
        </p:spPr>
      </p:pic>
      <p:sp>
        <p:nvSpPr>
          <p:cNvPr id="142" name="矩形 3"/>
          <p:cNvSpPr/>
          <p:nvPr/>
        </p:nvSpPr>
        <p:spPr>
          <a:xfrm>
            <a:off x="3101760" y="59292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无菌纱条宫腔填塞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动作按钮: 后退或前一项 4">
            <a:hlinkClick r:id="rId2" action="ppaction://hlinksldjump"/>
          </p:cNvPr>
          <p:cNvSpPr/>
          <p:nvPr/>
        </p:nvSpPr>
        <p:spPr>
          <a:xfrm>
            <a:off x="8215200" y="5929200"/>
            <a:ext cx="642960" cy="571680"/>
          </a:xfrm>
          <a:custGeom>
            <a:avLst/>
            <a:gdLst>
              <a:gd name="textAreaLeft" fmla="*/ 36720 w 642960"/>
              <a:gd name="textAreaRight" fmla="*/ 606240 w 64296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4292" h="21600">
                <a:moveTo>
                  <a:pt x="0" y="0"/>
                </a:moveTo>
                <a:lnTo>
                  <a:pt x="24292" y="0"/>
                </a:lnTo>
                <a:lnTo>
                  <a:pt x="24292" y="21600"/>
                </a:lnTo>
                <a:lnTo>
                  <a:pt x="0" y="21600"/>
                </a:lnTo>
                <a:close/>
              </a:path>
              <a:path fill="lightenLess" w="24292" h="21600">
                <a:moveTo>
                  <a:pt x="0" y="0"/>
                </a:moveTo>
                <a:lnTo>
                  <a:pt x="24292" y="0"/>
                </a:lnTo>
                <a:lnTo>
                  <a:pt x="22892" y="1400"/>
                </a:lnTo>
                <a:lnTo>
                  <a:pt x="1400" y="1400"/>
                </a:lnTo>
                <a:close/>
              </a:path>
              <a:path fill="darken" w="24292" h="21600">
                <a:moveTo>
                  <a:pt x="24292" y="0"/>
                </a:moveTo>
                <a:lnTo>
                  <a:pt x="24292" y="21600"/>
                </a:lnTo>
                <a:lnTo>
                  <a:pt x="22892" y="20200"/>
                </a:lnTo>
                <a:lnTo>
                  <a:pt x="22892" y="1400"/>
                </a:lnTo>
                <a:close/>
              </a:path>
              <a:path fill="darkenLess" w="24292" h="21600">
                <a:moveTo>
                  <a:pt x="24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2" y="20200"/>
                </a:lnTo>
                <a:close/>
              </a:path>
              <a:path fill="lighten" w="24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92" h="21600">
                <a:moveTo>
                  <a:pt x="5139" y="10800"/>
                </a:moveTo>
                <a:lnTo>
                  <a:pt x="19152" y="3794"/>
                </a:lnTo>
                <a:lnTo>
                  <a:pt x="19152" y="17806"/>
                </a:lnTo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                        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黑体"/>
              </a:rPr>
              <a:t>逐层缝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软产道裂伤      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黑体"/>
              </a:rPr>
              <a:t>不留死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                        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黑体"/>
              </a:rPr>
              <a:t>切开血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胎盘因素：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黑体"/>
              </a:rPr>
              <a:t>人工剥离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凝血机制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3214800" y="1785960"/>
            <a:ext cx="228600" cy="1523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主要护理诊断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/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合作性问题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500040" y="1714680"/>
            <a:ext cx="8429760" cy="40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织灌注量不足   与大量阴道流血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感染的危险   与失血后机体抵抗力降低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恐惧   与出血导致对生命的威胁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预感性悲哀   与大量出血危及生命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潜在并发症   失血性休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14240" y="1571400"/>
            <a:ext cx="79250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一、</a:t>
            </a:r>
            <a:r>
              <a:rPr b="1" lang="zh-CN" sz="2800" spc="-1" strike="noStrike">
                <a:solidFill>
                  <a:srgbClr val="660033"/>
                </a:solidFill>
                <a:latin typeface="Verdana"/>
                <a:ea typeface="宋体"/>
              </a:rPr>
              <a:t>预防产后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564480" indent="-21708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产前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孕期保健，定期产前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-21708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产时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正确处理产程，建立静脉通道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防产后出血的因素，提高接产技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-21708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产后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密切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早开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46ca6"/>
                </a:solidFill>
                <a:latin typeface="Arial"/>
                <a:ea typeface="黑体"/>
              </a:rPr>
              <a:t>             </a:t>
            </a: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42960" y="1357200"/>
            <a:ext cx="81439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二、</a:t>
            </a:r>
            <a:r>
              <a:rPr b="1" lang="zh-CN" sz="2800" spc="-1" strike="noStrike">
                <a:solidFill>
                  <a:srgbClr val="660033"/>
                </a:solidFill>
                <a:latin typeface="Verdana"/>
                <a:ea typeface="宋体"/>
              </a:rPr>
              <a:t> 发生产后出血的急救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、补充血容量：治疗成功的关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、平卧、保暖、给氧、安静休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、观察生命体征、子宫收缩情况及阴道流血量、尿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黑体"/>
                <a:ea typeface="黑体"/>
              </a:rPr>
              <a:t>三、心理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黑体"/>
                <a:ea typeface="黑体"/>
              </a:rPr>
              <a:t>四、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49752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lvl="1" marL="497520" indent="0">
              <a:lnSpc>
                <a:spcPct val="15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497520" indent="0">
              <a:lnSpc>
                <a:spcPct val="15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497520" indent="0">
              <a:lnSpc>
                <a:spcPct val="15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46ca6"/>
                </a:solidFill>
                <a:latin typeface="Arial"/>
                <a:ea typeface="黑体"/>
              </a:rPr>
              <a:t>             </a:t>
            </a: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497520" indent="0">
              <a:lnSpc>
                <a:spcPct val="15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46ca6"/>
                </a:solidFill>
                <a:latin typeface="Arial"/>
                <a:ea typeface="黑体"/>
              </a:rPr>
              <a:t> </a:t>
            </a: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071720" y="2000160"/>
            <a:ext cx="71434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二节 羊水栓塞</a:t>
            </a:r>
            <a:endParaRPr b="0" lang="en-US" sz="5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0" y="1428840"/>
            <a:ext cx="9468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识记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陈述产后出血、羊水栓塞、胎膜早破的概念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列举产后出血、子宫破裂、羊水栓塞、胎膜早破的常见原因及主要护理诊断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理解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比较不同原因引起产后出血患者的临床表现及处理措施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归纳先兆子宫破裂与子宫破裂的临床表现及处理原则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解释羊水栓塞的病理机制及临床表现、胎膜早破与感染、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脐带脱垂发生的因果关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运用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说出产后出血量的评估方法，并知道有效促进子宫收缩的按摩方法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应用护理程序对产后出血、羊水栓塞、子宫破裂及胎膜早破患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进行整体护理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106668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560" y="1428840"/>
            <a:ext cx="84819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定义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娩过程中羊水进入母血循环引起突发</a:t>
            </a:r>
            <a:r>
              <a:rPr b="1" lang="zh-CN" sz="2800" spc="-1" strike="noStrike" u="sng">
                <a:solidFill>
                  <a:srgbClr val="1d1496"/>
                </a:solidFill>
                <a:uFillTx/>
                <a:latin typeface="黑体"/>
                <a:ea typeface="黑体"/>
              </a:rPr>
              <a:t>急性肺栓塞、过敏性休克、弥散性血管内凝血、肾衰竭或猝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等一系列严重症状的综合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危害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病急、病情凶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78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羊水进入宫颈内静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宫缩过强、急产、经产妇、缩宫素加强宫缩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羊水进入损伤子宫壁血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前置胎盘、子宫破裂、剖宫产术、胎盘早剥、羊水穿刺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85840" y="1571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第一阶段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肺动脉高压  寒战、咳嗽、紫  疳、低氧血症 、左心衰竭 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P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第二阶段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凝血障碍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IC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第三阶段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多脏器功能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肾、肝、脑、心、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42960" y="99972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血涂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线床边摄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功能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IC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关的实验室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285840" y="1000080"/>
            <a:ext cx="8858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年龄 ＞ </a:t>
            </a: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35 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初产妇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如宫缩过强，可致宫颈或子宫裂伤，较易发生羊水栓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生育史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急产史的产妇或多产妇宫颈或子宫壁有病理性薄弱处，发病机会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与疾病相关的健康史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85840" y="1000080"/>
            <a:ext cx="8858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羊水栓塞起病急骤，家属及产妇对此毫无心理准备，感到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焦急、无助、恐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若母儿结局不良，家属感到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悲伤、愤怒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甚至出现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过激行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心理社会状况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57120" y="1143000"/>
            <a:ext cx="878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给氧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气管插管、正压给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解除肺动脉高压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阿托品、罂粟碱、氨茶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抗过敏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皮质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抗休克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补充血容量、多巴胺、纠正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酸中毒、纠正心力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防治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黑体"/>
              </a:rPr>
              <a:t>DIC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防治肾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产科处理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尽快结束分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主要护理诊断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合作性问题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428760" y="128592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57120" y="1499760"/>
            <a:ext cx="878688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气体交换受损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肺血管阻力增加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组织灌注量改变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弥散性血管内凝血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恐惧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死亡逼近感及担心胎儿安危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有胎儿窘迫的危险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母体循环衰竭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IC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等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潜在并发症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力衰竭、休克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I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肾衰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28480" y="1500120"/>
            <a:ext cx="691524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羊水栓塞的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羊水栓塞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观察病情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积极进行产科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提供心理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1071720" y="2000160"/>
            <a:ext cx="71434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三节  子宫破裂</a:t>
            </a:r>
            <a:endParaRPr b="0" lang="en-US" sz="5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56800" y="2356920"/>
            <a:ext cx="75726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一节 产后出血</a:t>
            </a: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概念及分类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356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破裂（</a:t>
            </a: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rupture of uterus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指在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妊娠晚期或分娩期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宫体部或子宫下段发生的破裂，是产科的严重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原因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自发性        损伤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时间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妊娠期        分娩期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程度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完全          不完全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部位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子宫体部      子宫下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43000" y="1857240"/>
            <a:ext cx="77724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胎先露下降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宫疤痕或子宫肌壁本身的病理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宫收缩剂使用不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术创伤或外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85840" y="1571400"/>
            <a:ext cx="861048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先兆子宫破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症状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下腹剧痛难忍、烦躁不安、呼叫、排尿困难、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血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征：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病理缩复环、子宫下段膨隆、压痛明显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可触及子宫圆韧带、胎心率改变或听不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85840" y="1356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破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症状：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突感撕裂样腹部剧痛、腹痛骤减，稍后全腹呈持续性疼痛，休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征：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休克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全腹有压痛及反跳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在腹壁下可扪及胎体，胎心消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缩小宫体位于胎儿侧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阴道可能有鲜血流出，量可多可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28800" y="171468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腹腔穿刺或后穹隆穿刺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超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与疾病相关的健康史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28760" y="1356840"/>
            <a:ext cx="828648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病变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多次刮宫、多产、宫腔严重感染、子宫畸形等可使子宫壁发生病理改变，从而增加发病机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手术史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无子宫肌瘤剔除术、剖宫产史等所致子宫瘢痕形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相关疾病史、缩宫素使用情况以及阴道助产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先兆子宫破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抑制宫缩（静脉全麻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做尽快行剖宫产术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破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抢救休克，剖宫产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主要护理诊断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合作性问题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56800" y="214308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潜在并发症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出血性休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预感性悲哀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子宫破裂后胎儿死亡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85520" y="1571400"/>
            <a:ext cx="835812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加强孕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临产阶段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现先兆破裂体征、执行医嘱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协助医师处理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提供术后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心理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1071720" y="2000160"/>
            <a:ext cx="71434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四节  胎膜早破</a:t>
            </a:r>
            <a:endParaRPr b="0" lang="en-US" sz="5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13840" y="1285560"/>
            <a:ext cx="892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后出血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ostpartum hemorrhag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胎儿娩出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出血量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0m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剖宫产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00ml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概  念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13880" y="157176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  <a:ea typeface="黑体"/>
              </a:rPr>
              <a:t>临产前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胎膜破裂称胎膜早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足月胎膜破裂：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妊娠满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37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足月前胎膜破裂：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妊娠不满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37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  <a:ea typeface="黑体"/>
              </a:rPr>
              <a:t>发生率：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  <a:ea typeface="黑体"/>
              </a:rPr>
              <a:t>危害：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感染、早产、胎儿窘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原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28440" y="1356840"/>
            <a:ext cx="7986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下生殖道感染 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常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羊膜腔内压力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胎儿先露部不能衔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营养因素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Vc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、锌等缺乏导致胎膜发育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宫颈内口松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创伤、妊娠后期性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症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突发较多液体自阴道流出，无腹痛，继而少量间断流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体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腹压增加羊水即流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肛诊：上推胎儿先露部可见液体自阴道流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期待疗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孕</a:t>
            </a:r>
            <a:r>
              <a:rPr b="1" lang="en-US" sz="2800" spc="-1" strike="noStrike">
                <a:solidFill>
                  <a:srgbClr val="660033"/>
                </a:solidFill>
                <a:latin typeface="黑体"/>
                <a:ea typeface="黑体"/>
              </a:rPr>
              <a:t>28</a:t>
            </a:r>
            <a:r>
              <a:rPr b="1" lang="en-US" sz="2800" spc="-1" strike="noStrike">
                <a:solidFill>
                  <a:srgbClr val="660033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660033"/>
                </a:solidFill>
                <a:latin typeface="黑体"/>
                <a:ea typeface="黑体"/>
              </a:rPr>
              <a:t>35</a:t>
            </a: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周不伴感染</a:t>
            </a:r>
            <a:r>
              <a:rPr b="1" lang="zh-CN" sz="28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期待治疗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终止妊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      </a:t>
            </a:r>
            <a:r>
              <a:rPr b="1" lang="en-US" sz="2800" spc="-1" strike="noStrike">
                <a:solidFill>
                  <a:srgbClr val="660033"/>
                </a:solidFill>
                <a:latin typeface="黑体"/>
                <a:ea typeface="黑体"/>
              </a:rPr>
              <a:t>&gt;37</a:t>
            </a: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周或有感染</a:t>
            </a:r>
            <a:r>
              <a:rPr b="1" lang="zh-CN" sz="2800" spc="-1" strike="noStrike">
                <a:solidFill>
                  <a:srgbClr val="660033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结束分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黑体"/>
                <a:ea typeface="黑体"/>
              </a:rPr>
              <a:t>破膜时间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黑体"/>
                <a:ea typeface="黑体"/>
              </a:rPr>
              <a:t>&gt;12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黑体"/>
                <a:ea typeface="黑体"/>
              </a:rPr>
              <a:t>小时者，使用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辅助检查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533520" y="150012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阴道窥器检查：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见液体自宫颈流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阴道液酸碱度检查：</a:t>
            </a:r>
            <a:r>
              <a:rPr b="1" lang="en-US" sz="2800" spc="-1" strike="noStrike">
                <a:solidFill>
                  <a:srgbClr val="1d1496"/>
                </a:solidFill>
                <a:latin typeface="黑体"/>
                <a:ea typeface="黑体"/>
              </a:rPr>
              <a:t>pH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＞</a:t>
            </a:r>
            <a:r>
              <a:rPr b="1" lang="en-US" sz="2800" spc="-1" strike="noStrike">
                <a:solidFill>
                  <a:srgbClr val="1d1496"/>
                </a:solidFill>
                <a:latin typeface="黑体"/>
                <a:ea typeface="黑体"/>
              </a:rPr>
              <a:t>6.5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阴道液涂片检查：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羊齿状结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羊膜镜检查：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可直视胎儿先露部，看不到前羊膜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71680" y="3357720"/>
            <a:ext cx="77724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214200" y="1500120"/>
            <a:ext cx="8715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有胎儿受伤的危险  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与可能发生脐带脱垂和胎儿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黑体"/>
                <a:ea typeface="黑体"/>
              </a:rPr>
              <a:t>                    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产等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有感染的危险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       与生殖道病原微生物易于上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黑体"/>
                <a:ea typeface="黑体"/>
              </a:rPr>
              <a:t>                    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感染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焦虑              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与未知的妊娠结果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71680" y="3357720"/>
            <a:ext cx="77724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1571760" y="1143000"/>
            <a:ext cx="72864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脐带脱垂的预防及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一般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症状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心理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药物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分娩期或剖宫产术相应的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3" name="矩形 2" descr=""/>
          <p:cNvPicPr/>
          <p:nvPr/>
        </p:nvPicPr>
        <p:blipFill>
          <a:blip r:embed="rId1"/>
          <a:stretch/>
        </p:blipFill>
        <p:spPr>
          <a:xfrm>
            <a:off x="1176480" y="1731960"/>
            <a:ext cx="694368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6840" y="1571760"/>
            <a:ext cx="75582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子宫收缩乏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产程延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盘剥离延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间歇性出血、色暗红，有凝血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子宫底高，质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轮廓不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428840"/>
            <a:ext cx="7753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胎盘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盘未娩出而出血多：胎盘部分剥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常见于：宫缩乏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胎盘粘连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胎盘植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处理不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盘滞留：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膀胱充盈、宫缩乏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盘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  <a:ea typeface="黑体"/>
              </a:rPr>
              <a:t>/</a:t>
            </a: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膜部分残留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42600" y="1213920"/>
            <a:ext cx="8039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软产道裂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出血表现发生在胎儿娩出后，持续、鲜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会阴血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会阴、阴道、宫颈、阴道穹隆、子宫下段、盆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凝血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出血暗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无凝血块 ， 出血不凝，出血不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71320" y="135720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诊断性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2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评估产后出血量：</a:t>
            </a: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面积法、称重法、容积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血常规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凝血功能检查：</a:t>
            </a: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配血、</a:t>
            </a:r>
            <a:r>
              <a:rPr b="1" lang="en-US" sz="2400" spc="-1" strike="noStrike">
                <a:solidFill>
                  <a:srgbClr val="990033"/>
                </a:solidFill>
                <a:latin typeface="黑体"/>
                <a:ea typeface="黑体"/>
              </a:rPr>
              <a:t>3P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辅助检查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85840" y="1000080"/>
            <a:ext cx="8858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慢性疾病史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婚育史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期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阴道助产操作不规范、药物的使用不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与疾病相关的健康史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7:57:05Z</dcterms:modified>
  <cp:revision>4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